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8.png" ContentType="image/png"/>
  <Override PartName="/ppt/media/image9.png" ContentType="image/png"/>
  <Override PartName="/ppt/media/image16.png" ContentType="image/png"/>
  <Override PartName="/ppt/media/image13.gif" ContentType="image/gif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2CC-26AA-4092-8EB5-9FDEBD8D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646-4545-4773-A4EA-BE14ABE9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BE4-DED3-4583-893B-77B97831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902-691E-443D-B396-831A8FBA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32D-BB3A-4C1B-B694-BBFB97B0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127-5E4B-483F-9EAA-57C4DD0E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9BF-FAE6-48DB-BB45-52A07FA6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6F5-4806-49FF-BCC8-A8DB2B13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BD9-E5CF-4070-8A1A-BE47BE91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EEA-868D-4C45-AFB4-40E4EC18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800-F18F-400E-B269-BD301524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4CD-A24D-4E5C-B913-10731B9A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91951-A199-40B3-998E-A2DB53662D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3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5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3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3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image" Target="../media/image1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image" Target="../media/image1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3.gif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8050680" y="4720320"/>
            <a:ext cx="667800" cy="120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Hei"/>
              </a:rPr>
              <a:t>散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903400" y="654120"/>
            <a:ext cx="484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黑体"/>
                <a:ea typeface="黑体"/>
              </a:rPr>
              <a:t>再塑生命的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圆角矩形 21"/>
          <p:cNvSpPr/>
          <p:nvPr/>
        </p:nvSpPr>
        <p:spPr>
          <a:xfrm>
            <a:off x="958680" y="17082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1628640" y="687240"/>
            <a:ext cx="1182960" cy="1181160"/>
          </a:xfrm>
          <a:prstGeom prst="diamond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49"/>
          <p:cNvSpPr/>
          <p:nvPr/>
        </p:nvSpPr>
        <p:spPr>
          <a:xfrm>
            <a:off x="1636200" y="7142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1" descr=""/>
          <p:cNvPicPr/>
          <p:nvPr/>
        </p:nvPicPr>
        <p:blipFill>
          <a:blip r:embed="rId1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2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2d042838f0ef5de3b311c773"/>
          <p:cNvPicPr/>
          <p:nvPr/>
        </p:nvPicPr>
        <p:blipFill>
          <a:blip r:embed="rId2"/>
          <a:stretch/>
        </p:blipFill>
        <p:spPr>
          <a:xfrm>
            <a:off x="958680" y="2106720"/>
            <a:ext cx="3225960" cy="36511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Picture 3" descr="1338089467epKmnKhH_s"/>
          <p:cNvPicPr/>
          <p:nvPr/>
        </p:nvPicPr>
        <p:blipFill>
          <a:blip r:embed="rId3"/>
          <a:stretch/>
        </p:blipFill>
        <p:spPr>
          <a:xfrm>
            <a:off x="4175280" y="2108160"/>
            <a:ext cx="3757320" cy="366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25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50" name="矩形 1"/>
          <p:cNvSpPr/>
          <p:nvPr/>
        </p:nvSpPr>
        <p:spPr>
          <a:xfrm>
            <a:off x="534960" y="1879560"/>
            <a:ext cx="7419960" cy="23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油然而生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容思想感情自然而然地产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油然而生、情不自禁辨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词都有感情自然产生的意思。不同之处在于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“油然而生”指感情自然而然地产生，程度较浅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：我们望着迎风飘扬的五星红旗，爱国之情油然而生。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“情不自禁”指抑制不住自己的感情，程度较深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：看到感动处，她情不自禁地流下了泪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0" descr="D:\我的文档\Tencent Files\923213587\FileRecv\预习反馈.gif"/>
          <p:cNvPicPr/>
          <p:nvPr/>
        </p:nvPicPr>
        <p:blipFill>
          <a:blip r:embed="rId4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25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55" name="矩形 1"/>
          <p:cNvSpPr/>
          <p:nvPr/>
        </p:nvSpPr>
        <p:spPr>
          <a:xfrm>
            <a:off x="206280" y="1352520"/>
            <a:ext cx="846288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花团锦簇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形容五彩缤纷、十分华丽的景象。　例句：阳春三月，公园里花团锦簇，真是美不胜收啊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美不胜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美好的东西太多，一时接受不完。胜，完、尽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小心翼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形容举动十分谨慎，一点不敢疏忽。例句：我小心翼翼地打开信封，生怕把它弄坏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9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不求甚解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现在多指读书学习只求懂得大概，不求深刻了解。例句：我们要认真学习，有不懂的地方千万要问，不要不求甚解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" descr="D:\我的文档\Tencent Files\923213587\FileRecv\预习反馈.gif"/>
          <p:cNvPicPr/>
          <p:nvPr/>
        </p:nvPicPr>
        <p:blipFill>
          <a:blip r:embed="rId4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5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60" name="矩形 1"/>
          <p:cNvSpPr/>
          <p:nvPr/>
        </p:nvSpPr>
        <p:spPr>
          <a:xfrm>
            <a:off x="368280" y="1460520"/>
            <a:ext cx="8433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恍然大悟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恍然：形容忽然醒悟。形容一下子明白过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混为一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不同的事物混在一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成是同样的事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10" descr="D:\我的文档\Tencent Files\923213587\FileRecv\预习反馈.gif"/>
          <p:cNvPicPr/>
          <p:nvPr/>
        </p:nvPicPr>
        <p:blipFill>
          <a:blip r:embed="rId4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  <p:sp>
        <p:nvSpPr>
          <p:cNvPr id="162" name="矩形 1"/>
          <p:cNvSpPr/>
          <p:nvPr/>
        </p:nvSpPr>
        <p:spPr>
          <a:xfrm>
            <a:off x="556560" y="151920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26" descr="山底5.png"/>
          <p:cNvPicPr/>
          <p:nvPr/>
        </p:nvPicPr>
        <p:blipFill>
          <a:blip r:embed="rId1"/>
          <a:stretch/>
        </p:blipFill>
        <p:spPr>
          <a:xfrm>
            <a:off x="0" y="4761000"/>
            <a:ext cx="9144000" cy="21063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4"/>
          <p:cNvSpPr/>
          <p:nvPr/>
        </p:nvSpPr>
        <p:spPr>
          <a:xfrm>
            <a:off x="671400" y="3196800"/>
            <a:ext cx="23288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导思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莎莉文老师是如何教我知 识的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5595840" y="2265480"/>
            <a:ext cx="252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导思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:</a:t>
            </a:r>
            <a:r>
              <a:rPr b="1" lang="zh-CN" sz="2000" spc="-1" strike="noStrike">
                <a:solidFill>
                  <a:srgbClr val="0d0d0d"/>
                </a:solidFill>
                <a:latin typeface="楷体"/>
                <a:ea typeface="楷体"/>
              </a:rPr>
              <a:t> “</a:t>
            </a:r>
            <a:r>
              <a:rPr b="1" lang="zh-CN" sz="2000" spc="-1" strike="noStrike">
                <a:solidFill>
                  <a:srgbClr val="0d0d0d"/>
                </a:solidFill>
                <a:latin typeface="楷体"/>
                <a:ea typeface="楷体"/>
              </a:rPr>
              <a:t>我”当时是怎样的生命状态？ “我”最渴望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接连接符 72"/>
          <p:cNvSpPr/>
          <p:nvPr/>
        </p:nvSpPr>
        <p:spPr>
          <a:xfrm>
            <a:off x="819000" y="3003480"/>
            <a:ext cx="2143440" cy="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73"/>
          <p:cNvSpPr/>
          <p:nvPr/>
        </p:nvSpPr>
        <p:spPr>
          <a:xfrm>
            <a:off x="2959200" y="3006720"/>
            <a:ext cx="542880" cy="50796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74"/>
          <p:cNvSpPr/>
          <p:nvPr/>
        </p:nvSpPr>
        <p:spPr>
          <a:xfrm>
            <a:off x="5691240" y="2306520"/>
            <a:ext cx="2138400" cy="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75"/>
          <p:cNvSpPr/>
          <p:nvPr/>
        </p:nvSpPr>
        <p:spPr>
          <a:xfrm flipH="1">
            <a:off x="5100120" y="2306520"/>
            <a:ext cx="576360" cy="89712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76"/>
          <p:cNvSpPr/>
          <p:nvPr/>
        </p:nvSpPr>
        <p:spPr>
          <a:xfrm>
            <a:off x="1083240" y="25239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老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7"/>
          <p:cNvSpPr/>
          <p:nvPr/>
        </p:nvSpPr>
        <p:spPr>
          <a:xfrm>
            <a:off x="5835600" y="1792440"/>
            <a:ext cx="337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“</a:t>
            </a: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我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云形 80" descr=""/>
          <p:cNvPicPr/>
          <p:nvPr/>
        </p:nvPicPr>
        <p:blipFill>
          <a:blip r:embed="rId4"/>
          <a:stretch/>
        </p:blipFill>
        <p:spPr>
          <a:xfrm>
            <a:off x="3222720" y="2944800"/>
            <a:ext cx="2271600" cy="1795320"/>
          </a:xfrm>
          <a:prstGeom prst="rect">
            <a:avLst/>
          </a:prstGeom>
          <a:ln w="0">
            <a:noFill/>
          </a:ln>
        </p:spPr>
      </p:pic>
      <p:sp>
        <p:nvSpPr>
          <p:cNvPr id="175" name="矩形 81"/>
          <p:cNvSpPr/>
          <p:nvPr/>
        </p:nvSpPr>
        <p:spPr>
          <a:xfrm>
            <a:off x="3559320" y="3306600"/>
            <a:ext cx="1841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关键词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感激、爱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2" descr="D:\我的文档\Tencent Files\923213587\FileRecv\初读感知.gif"/>
          <p:cNvPicPr/>
          <p:nvPr/>
        </p:nvPicPr>
        <p:blipFill>
          <a:blip r:embed="rId5"/>
          <a:stretch/>
        </p:blipFill>
        <p:spPr>
          <a:xfrm>
            <a:off x="3262320" y="4968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3" descr=""/>
          <p:cNvPicPr/>
          <p:nvPr/>
        </p:nvPicPr>
        <p:blipFill>
          <a:blip r:embed="rId6"/>
          <a:stretch/>
        </p:blipFill>
        <p:spPr>
          <a:xfrm>
            <a:off x="368280" y="1424160"/>
            <a:ext cx="4035600" cy="858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5757840" y="4824720"/>
            <a:ext cx="2376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导思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读完海伦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凯勒的故事，你有什么感受或受到什么启发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30"/>
          <p:cNvSpPr/>
          <p:nvPr/>
        </p:nvSpPr>
        <p:spPr>
          <a:xfrm>
            <a:off x="5835600" y="4402080"/>
            <a:ext cx="2076480" cy="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接连接符 31"/>
          <p:cNvSpPr/>
          <p:nvPr/>
        </p:nvSpPr>
        <p:spPr>
          <a:xfrm>
            <a:off x="5321160" y="4073400"/>
            <a:ext cx="514440" cy="32868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32"/>
          <p:cNvSpPr/>
          <p:nvPr/>
        </p:nvSpPr>
        <p:spPr>
          <a:xfrm>
            <a:off x="6524640" y="39495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感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26" descr="山底5.png"/>
          <p:cNvPicPr/>
          <p:nvPr/>
        </p:nvPicPr>
        <p:blipFill>
          <a:blip r:embed="rId1"/>
          <a:stretch/>
        </p:blipFill>
        <p:spPr>
          <a:xfrm>
            <a:off x="0" y="4761000"/>
            <a:ext cx="9144000" cy="21063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85" name="矩形 2"/>
          <p:cNvSpPr/>
          <p:nvPr/>
        </p:nvSpPr>
        <p:spPr>
          <a:xfrm>
            <a:off x="914400" y="2344680"/>
            <a:ext cx="3225960" cy="551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黑体"/>
                <a:ea typeface="黑体"/>
              </a:rPr>
              <a:t>第一部分（第①一⑤段）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901800" y="3691080"/>
            <a:ext cx="3238560" cy="551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黑体"/>
                <a:ea typeface="黑体"/>
              </a:rPr>
              <a:t>第二部分（第⑥一⑬段）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901800" y="2970360"/>
            <a:ext cx="3421080" cy="551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写“我”初识莎莉 文老师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9"/>
          <p:cNvSpPr/>
          <p:nvPr/>
        </p:nvSpPr>
        <p:spPr>
          <a:xfrm>
            <a:off x="888840" y="4334040"/>
            <a:ext cx="6629400" cy="551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莎莉文老师用她特有的教育方式开启了“我”智慧和情感的大门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1" descr=""/>
          <p:cNvPicPr/>
          <p:nvPr/>
        </p:nvPicPr>
        <p:blipFill>
          <a:blip r:embed="rId4"/>
          <a:stretch/>
        </p:blipFill>
        <p:spPr>
          <a:xfrm>
            <a:off x="439560" y="1305000"/>
            <a:ext cx="4035600" cy="858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2" descr="D:\我的文档\Tencent Files\923213587\FileRecv\初读感知.gif"/>
          <p:cNvPicPr/>
          <p:nvPr/>
        </p:nvPicPr>
        <p:blipFill>
          <a:blip r:embed="rId5"/>
          <a:stretch/>
        </p:blipFill>
        <p:spPr>
          <a:xfrm>
            <a:off x="3262320" y="49680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4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8"/>
          <p:cNvSpPr/>
          <p:nvPr/>
        </p:nvSpPr>
        <p:spPr>
          <a:xfrm>
            <a:off x="360360" y="1230840"/>
            <a:ext cx="727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在文章开头为什么强调“这一天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"/>
          <p:cNvSpPr/>
          <p:nvPr/>
        </p:nvSpPr>
        <p:spPr>
          <a:xfrm>
            <a:off x="360360" y="2725200"/>
            <a:ext cx="78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为“这一天”是“我一生中最重要的一天”，“这一天”莎莉文老师来了，是“我”生命重新开始的一天。从这一天起，“我”过上了和以前完全不同的生活。通过强调“这一天”，从侧面说明莎莉文老师对“我”的影响之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3"/>
          <p:cNvSpPr/>
          <p:nvPr/>
        </p:nvSpPr>
        <p:spPr>
          <a:xfrm>
            <a:off x="511200" y="4753080"/>
            <a:ext cx="6969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然段的景物描写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271440" y="532440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题运用景物描写作用分析法。通过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描写烘托海伦期待新生的心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4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4"/>
          <p:cNvSpPr/>
          <p:nvPr/>
        </p:nvSpPr>
        <p:spPr>
          <a:xfrm>
            <a:off x="368280" y="1848240"/>
            <a:ext cx="81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中“在未受教育之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“光明！光明！快给我光明！”这句话运用了什么修辞，有什么表达效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"/>
          <p:cNvSpPr/>
          <p:nvPr/>
        </p:nvSpPr>
        <p:spPr>
          <a:xfrm>
            <a:off x="671400" y="2917800"/>
            <a:ext cx="76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题运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修辞作用两步分析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作者先运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形象生动地展示了“我”坠入寂静而黑暗的世界的心理状态，表现“我”在黑暗、沉寂的世界中的焦躁、恐惧。然后运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反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修辞手法写出了“我”受教育前对光明的渴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19"/>
          <p:cNvSpPr/>
          <p:nvPr/>
        </p:nvSpPr>
        <p:spPr>
          <a:xfrm>
            <a:off x="819000" y="6303960"/>
            <a:ext cx="750600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27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23" descr=""/>
          <p:cNvPicPr/>
          <p:nvPr/>
        </p:nvPicPr>
        <p:blipFill>
          <a:blip r:embed="rId2"/>
          <a:stretch/>
        </p:blipFill>
        <p:spPr>
          <a:xfrm>
            <a:off x="0" y="-8100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09" name="Line 8"/>
          <p:cNvSpPr/>
          <p:nvPr/>
        </p:nvSpPr>
        <p:spPr>
          <a:xfrm>
            <a:off x="938160" y="4124160"/>
            <a:ext cx="740736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716040" y="183060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中作者是如何写自己学会拼写词语的感受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1125360" y="2692440"/>
            <a:ext cx="689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里作者运用了神态描写、动作描写，写出了自己学会拼写词语的兴奋之情。特别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涨红”“跑”“找”等词，形象地把自己初学拼写词语的喜悦尽情地展现了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4"/>
          <p:cNvSpPr/>
          <p:nvPr/>
        </p:nvSpPr>
        <p:spPr>
          <a:xfrm>
            <a:off x="558720" y="2345400"/>
            <a:ext cx="77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里写“我”发脾气运用了什么描写？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928800" y="3564720"/>
            <a:ext cx="701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里运用了侧面描写，写“我”发脾气，真实地写出了“我”急于想走出黑暗、沉寂世界的焦躁不安的心理。说明“我”的学习过程是如此艰难，每一点进步都需付出很多的努力，从侧面烘托出莎莉文老师工作细致、耐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3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grpSp>
        <p:nvGrpSpPr>
          <p:cNvPr id="222" name="组 3"/>
          <p:cNvGrpSpPr/>
          <p:nvPr/>
        </p:nvGrpSpPr>
        <p:grpSpPr>
          <a:xfrm>
            <a:off x="2827440" y="1581120"/>
            <a:ext cx="3263760" cy="668520"/>
            <a:chOff x="2827440" y="1581120"/>
            <a:chExt cx="3263760" cy="668520"/>
          </a:xfrm>
        </p:grpSpPr>
        <p:sp>
          <p:nvSpPr>
            <p:cNvPr id="223" name="圆角矩形 42"/>
            <p:cNvSpPr/>
            <p:nvPr/>
          </p:nvSpPr>
          <p:spPr>
            <a:xfrm>
              <a:off x="3664080" y="1716120"/>
              <a:ext cx="24098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文本框 43"/>
            <p:cNvSpPr/>
            <p:nvPr/>
          </p:nvSpPr>
          <p:spPr>
            <a:xfrm>
              <a:off x="3966840" y="1716480"/>
              <a:ext cx="21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阅读方法解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5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2827440" y="158112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文本框 4"/>
          <p:cNvSpPr/>
          <p:nvPr/>
        </p:nvSpPr>
        <p:spPr>
          <a:xfrm>
            <a:off x="835200" y="23828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侧面描写作用分析法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侧面描写的作用：一方面，能激发人的想象力。侧面描写往往比正面描写更机智，能以较经济的笔墨表现所描写的对象，能收到以少胜多的功效。另一方面，侧面描写是对正面描写的有益补充。 好的侧面描写，往往能起到烘云托月、锦上添花的作用。这里就是通过对“我”发脾气的描写，侧面烘托出莎莉文老师的细致、耐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11" descr="D:\我的文档\Tencent Files\923213587\FileRecv\精读品味.gif"/>
          <p:cNvPicPr/>
          <p:nvPr/>
        </p:nvPicPr>
        <p:blipFill>
          <a:blip r:embed="rId5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sp>
        <p:nvSpPr>
          <p:cNvPr id="53" name="矩形 3"/>
          <p:cNvSpPr/>
          <p:nvPr/>
        </p:nvSpPr>
        <p:spPr>
          <a:xfrm>
            <a:off x="896760" y="2936880"/>
            <a:ext cx="74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听完这首歌唱老师的歌曲，大家是不是也感受到了老师的伟大呢？今天，我们一起走进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再塑生命的人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，去感受一个病弱生命的顽强成长的足迹，和引领她人生转机走向光明的莎莉文老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8" descr=""/>
          <p:cNvPicPr/>
          <p:nvPr/>
        </p:nvPicPr>
        <p:blipFill>
          <a:blip r:embed="rId4"/>
          <a:stretch/>
        </p:blipFill>
        <p:spPr>
          <a:xfrm>
            <a:off x="3303720" y="53964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56" name="长大后我就成了你" descr=""/>
          <p:cNvPicPr/>
          <p:nvPr/>
        </p:nvPicPr>
        <p:blipFill>
          <a:blip r:embed="rId5"/>
          <a:stretch/>
        </p:blipFill>
        <p:spPr>
          <a:xfrm>
            <a:off x="6170760" y="16318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49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31" name="矩形 14"/>
          <p:cNvSpPr/>
          <p:nvPr/>
        </p:nvSpPr>
        <p:spPr>
          <a:xfrm>
            <a:off x="498600" y="2168640"/>
            <a:ext cx="75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说“水唤醒了我的灵魂，并给予我光明、希望、快乐和自由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790560" y="4075560"/>
            <a:ext cx="72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水”使“我”有了自己的思想，激起了“我”强烈的求知欲。“我”不再是仅仅限于模仿学习，而是能够敞开自己的心灵，感受到人间的光明、希望、快乐和自由。也因为有了求知欲，“我”就更能感受到生命的价值与意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组 1"/>
          <p:cNvGrpSpPr/>
          <p:nvPr/>
        </p:nvGrpSpPr>
        <p:grpSpPr>
          <a:xfrm>
            <a:off x="622440" y="1673280"/>
            <a:ext cx="3520800" cy="476280"/>
            <a:chOff x="622440" y="1673280"/>
            <a:chExt cx="3520800" cy="476280"/>
          </a:xfrm>
        </p:grpSpPr>
        <p:pic>
          <p:nvPicPr>
            <p:cNvPr id="234" name="Picture 6" descr="BS00554_"/>
            <p:cNvPicPr/>
            <p:nvPr/>
          </p:nvPicPr>
          <p:blipFill>
            <a:blip r:embed="rId4"/>
            <a:stretch/>
          </p:blipFill>
          <p:spPr>
            <a:xfrm>
              <a:off x="3706200" y="1708200"/>
              <a:ext cx="4370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圆角矩形 17"/>
            <p:cNvSpPr/>
            <p:nvPr/>
          </p:nvSpPr>
          <p:spPr>
            <a:xfrm>
              <a:off x="622440" y="1679400"/>
              <a:ext cx="2968560" cy="45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文本框 32"/>
            <p:cNvSpPr/>
            <p:nvPr/>
          </p:nvSpPr>
          <p:spPr>
            <a:xfrm>
              <a:off x="725760" y="1673280"/>
              <a:ext cx="29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析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-1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然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Picture 11" descr="D:\我的文档\Tencent Files\923213587\FileRecv\精读品味.gif"/>
          <p:cNvPicPr/>
          <p:nvPr/>
        </p:nvPicPr>
        <p:blipFill>
          <a:blip r:embed="rId5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41" name="矩形 14"/>
          <p:cNvSpPr/>
          <p:nvPr/>
        </p:nvSpPr>
        <p:spPr>
          <a:xfrm>
            <a:off x="750960" y="1854360"/>
            <a:ext cx="74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结合文章第⑨段中“我”的心情，可以看出“我” 此刻的心理有怎样的变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1027080" y="2859120"/>
            <a:ext cx="68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我”在学习遇到障碍时，发脾气摔碎了布娃娃。当“我”懂得了每一样东西似乎都有生命以后，“我”悔恨莫及。“浸”字形象地写出了“我”满眼都是泪水的样子，生动地表现出了“我”的痛惜与悔恨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47" name="矩形 14"/>
          <p:cNvSpPr/>
          <p:nvPr/>
        </p:nvSpPr>
        <p:spPr>
          <a:xfrm>
            <a:off x="344520" y="1882800"/>
            <a:ext cx="743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啊！世界是还有比我理幸福的孩子吗？”品析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句话的含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1027080" y="2859120"/>
            <a:ext cx="683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直抒胸臆，写出了“我”内心浓烈的幸福感，说明莎莉文老师为“我”开启了知识的大门，“我”学会很多文字后感到无比的快乐和幸福，感到了世界的美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27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53" name="圆角矩形 31"/>
          <p:cNvSpPr/>
          <p:nvPr/>
        </p:nvSpPr>
        <p:spPr>
          <a:xfrm>
            <a:off x="3770280" y="1798560"/>
            <a:ext cx="20908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35"/>
          <p:cNvSpPr/>
          <p:nvPr/>
        </p:nvSpPr>
        <p:spPr>
          <a:xfrm>
            <a:off x="4022640" y="1785960"/>
            <a:ext cx="19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难点小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图片 9" descr="book.gif"/>
          <p:cNvPicPr/>
          <p:nvPr/>
        </p:nvPicPr>
        <p:blipFill>
          <a:blip r:embed="rId4"/>
          <a:stretch/>
        </p:blipFill>
        <p:spPr>
          <a:xfrm>
            <a:off x="2935440" y="1663560"/>
            <a:ext cx="1087200" cy="6685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5"/>
          <p:cNvSpPr/>
          <p:nvPr/>
        </p:nvSpPr>
        <p:spPr>
          <a:xfrm>
            <a:off x="1111320" y="3089880"/>
            <a:ext cx="701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突破了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以写老师为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的惯例，作者用大量的笔墨写自己对生活的态度，写自己的种种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，写自己的思想感情的变化等等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都是为了从侧面写老师对自己的巨大影响，写老师的可敬可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1" descr="D:\我的文档\Tencent Files\923213587\FileRecv\精读品味.gif"/>
          <p:cNvPicPr/>
          <p:nvPr/>
        </p:nvPicPr>
        <p:blipFill>
          <a:blip r:embed="rId5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1052640" y="3459960"/>
            <a:ext cx="72579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本题运用品味赏析标题法。“再塑生命”从字面意思看，是“重新塑造生命、重新获得生命”的意思。 在本文中，“再塑生命”是指：“爱的光明照到了我的身上”。本来，“在我的那个寂静而又黑暗的世界里，根本就不会有温柔和同情”。但是，在莎莉文老师的教育下，“我”的灵魂被唤醒，再次拥有“光明、希望、快乐和自由”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这里的“光明”一词是用其比喻义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。正如作者自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673200" y="1861560"/>
            <a:ext cx="7270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主题探究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课文题目有什么含义？如果换成“我的老师”好不好？为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10" descr="D:\我的文档\Tencent Files\923213587\FileRecv\研读探究.gif"/>
          <p:cNvPicPr/>
          <p:nvPr/>
        </p:nvPicPr>
        <p:blipFill>
          <a:blip r:embed="rId4"/>
          <a:stretch/>
        </p:blipFill>
        <p:spPr>
          <a:xfrm>
            <a:off x="3301920" y="48744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4"/>
          <p:cNvSpPr/>
          <p:nvPr/>
        </p:nvSpPr>
        <p:spPr>
          <a:xfrm>
            <a:off x="993600" y="2913840"/>
            <a:ext cx="750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所言：“她就是那个来对我启示世间的真理、给我深切的爱的人。”用“再塑生命的人”来做题目表达了作者对莎莉文老师的无比敬爱和感激之情。如果换成“我的老师”不好，莎莉文老师不是一位普通的老师，她是一位创造了“奇迹”的老师，莎莉文老师使作者重新回到了大自然，理解了大自然，懂得了什么是“爱”，因此，用“再塑生命的人”做题目更恰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10" descr="D:\我的文档\Tencent Files\923213587\FileRecv\研读探究.gif"/>
          <p:cNvPicPr/>
          <p:nvPr/>
        </p:nvPicPr>
        <p:blipFill>
          <a:blip r:embed="rId4"/>
          <a:stretch/>
        </p:blipFill>
        <p:spPr>
          <a:xfrm>
            <a:off x="3301920" y="48744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4"/>
          <p:cNvSpPr/>
          <p:nvPr/>
        </p:nvSpPr>
        <p:spPr>
          <a:xfrm>
            <a:off x="749160" y="3941640"/>
            <a:ext cx="7409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莎莉文老师来之前，海伦愤怒、苦恼、疲倦不堪，如同大雾中的航船没有方向。莎莉文老师来后，开启了海伦智慧和情感的大门，让海伦获得了生命的意识和感情，拥有了求知的美妙的感受。莎莉文老师引导海伦走进自然、亲近自然，在与自然的相处中感受自然的伟大和世界的美好。她还引导海伦从能触摸的东西中获得思维的提升，领悟到抽象的概念，是莎莉文老师再塑了海伦的生命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506520" y="1972800"/>
            <a:ext cx="781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难点探究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莎莉文老师到来后，使海伦有了怎样的变化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10" descr="D:\我的文档\Tencent Files\923213587\FileRecv\研读探究.gif"/>
          <p:cNvPicPr/>
          <p:nvPr/>
        </p:nvPicPr>
        <p:blipFill>
          <a:blip r:embed="rId4"/>
          <a:stretch/>
        </p:blipFill>
        <p:spPr>
          <a:xfrm>
            <a:off x="3301920" y="48744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9"/>
          <p:cNvSpPr/>
          <p:nvPr/>
        </p:nvSpPr>
        <p:spPr>
          <a:xfrm>
            <a:off x="1647720" y="2328840"/>
            <a:ext cx="2082960" cy="995400"/>
          </a:xfrm>
          <a:prstGeom prst="roundRect">
            <a:avLst>
              <a:gd name="adj" fmla="val 13125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1665360" y="3692520"/>
            <a:ext cx="2093760" cy="1131840"/>
          </a:xfrm>
          <a:prstGeom prst="roundRect">
            <a:avLst>
              <a:gd name="adj" fmla="val 13125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AutoShape 9"/>
          <p:cNvSpPr/>
          <p:nvPr/>
        </p:nvSpPr>
        <p:spPr>
          <a:xfrm rot="5400000">
            <a:off x="6766560" y="3169440"/>
            <a:ext cx="1773360" cy="473040"/>
          </a:xfrm>
          <a:prstGeom prst="roundRect">
            <a:avLst>
              <a:gd name="adj" fmla="val 13125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735120" y="2441520"/>
            <a:ext cx="542880" cy="2324160"/>
          </a:xfrm>
          <a:custGeom>
            <a:avLst/>
            <a:gdLst>
              <a:gd name="textAreaLeft" fmla="*/ 20880 w 542880"/>
              <a:gd name="textAreaRight" fmla="*/ 522000 w 542880"/>
              <a:gd name="textAreaTop" fmla="*/ 20880 h 2324160"/>
              <a:gd name="textAreaBottom" fmla="*/ 2303280 h 2324160"/>
            </a:gdLst>
            <a:ahLst/>
            <a:rect l="textAreaLeft" t="textAreaTop" r="textAreaRight" b="textAreaBottom"/>
            <a:pathLst>
              <a:path w="21600" h="92426">
                <a:moveTo>
                  <a:pt x="2835" y="0"/>
                </a:moveTo>
                <a:arcTo wR="2835" hR="2835" stAng="16200000" swAng="-5400000"/>
                <a:lnTo>
                  <a:pt x="0" y="89591"/>
                </a:lnTo>
                <a:arcTo wR="2835" hR="2835" stAng="10800000" swAng="-5400000"/>
                <a:lnTo>
                  <a:pt x="18765" y="92426"/>
                </a:lnTo>
                <a:arcTo wR="2835" hR="2835" stAng="5400000" swAng="-5400000"/>
                <a:lnTo>
                  <a:pt x="21600" y="2835"/>
                </a:lnTo>
                <a:arcTo wR="2835" hR="2835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47"/>
          <p:cNvSpPr/>
          <p:nvPr/>
        </p:nvSpPr>
        <p:spPr>
          <a:xfrm>
            <a:off x="-37440" y="2567160"/>
            <a:ext cx="145980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c9337"/>
                </a:solidFill>
                <a:latin typeface="宋体"/>
              </a:rPr>
              <a:t>再塑生命的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48"/>
          <p:cNvSpPr/>
          <p:nvPr/>
        </p:nvSpPr>
        <p:spPr>
          <a:xfrm>
            <a:off x="1582560" y="22431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老师来前“我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的心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49"/>
          <p:cNvSpPr/>
          <p:nvPr/>
        </p:nvSpPr>
        <p:spPr>
          <a:xfrm>
            <a:off x="1582560" y="3541680"/>
            <a:ext cx="25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老师来后“我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的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左大括号 56"/>
          <p:cNvSpPr/>
          <p:nvPr/>
        </p:nvSpPr>
        <p:spPr>
          <a:xfrm>
            <a:off x="1324080" y="2344680"/>
            <a:ext cx="284040" cy="2395440"/>
          </a:xfrm>
          <a:custGeom>
            <a:avLst/>
            <a:gdLst>
              <a:gd name="textAreaLeft" fmla="*/ 181440 w 284040"/>
              <a:gd name="textAreaRight" fmla="*/ 284040 w 284040"/>
              <a:gd name="textAreaTop" fmla="*/ 7200 h 2395440"/>
              <a:gd name="textAreaBottom" fmla="*/ 2388240 h 239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7"/>
                  <a:pt x="10800" y="213"/>
                </a:cubicBezTo>
                <a:lnTo>
                  <a:pt x="10800" y="10376"/>
                </a:lnTo>
                <a:cubicBezTo>
                  <a:pt x="10800" y="10483"/>
                  <a:pt x="5400" y="10589"/>
                  <a:pt x="0" y="10589"/>
                </a:cubicBezTo>
                <a:cubicBezTo>
                  <a:pt x="5400" y="10589"/>
                  <a:pt x="10800" y="10696"/>
                  <a:pt x="10800" y="10802"/>
                </a:cubicBezTo>
                <a:lnTo>
                  <a:pt x="10800" y="21387"/>
                </a:lnTo>
                <a:cubicBezTo>
                  <a:pt x="10800" y="2149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2"/>
          <p:cNvSpPr/>
          <p:nvPr/>
        </p:nvSpPr>
        <p:spPr>
          <a:xfrm>
            <a:off x="4264920" y="211284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痛苦心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2"/>
          <p:cNvSpPr/>
          <p:nvPr/>
        </p:nvSpPr>
        <p:spPr>
          <a:xfrm>
            <a:off x="4540320" y="3102120"/>
            <a:ext cx="1782360" cy="825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送“我”布娃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”拼写单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3"/>
          <p:cNvSpPr/>
          <p:nvPr/>
        </p:nvSpPr>
        <p:spPr>
          <a:xfrm>
            <a:off x="4024440" y="3990960"/>
            <a:ext cx="2814480" cy="459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教“我”认识实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4"/>
          <p:cNvSpPr/>
          <p:nvPr/>
        </p:nvSpPr>
        <p:spPr>
          <a:xfrm>
            <a:off x="4024440" y="4511520"/>
            <a:ext cx="2814480" cy="459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“我”获得幸福体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5"/>
          <p:cNvSpPr/>
          <p:nvPr/>
        </p:nvSpPr>
        <p:spPr>
          <a:xfrm>
            <a:off x="7006680" y="2854440"/>
            <a:ext cx="911880" cy="15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教育有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左大括号 28"/>
          <p:cNvSpPr/>
          <p:nvPr/>
        </p:nvSpPr>
        <p:spPr>
          <a:xfrm>
            <a:off x="3745080" y="2198520"/>
            <a:ext cx="253800" cy="855720"/>
          </a:xfrm>
          <a:custGeom>
            <a:avLst/>
            <a:gdLst>
              <a:gd name="textAreaLeft" fmla="*/ 162360 w 253800"/>
              <a:gd name="textAreaRight" fmla="*/ 254160 w 253800"/>
              <a:gd name="textAreaTop" fmla="*/ 6480 h 855720"/>
              <a:gd name="textAreaBottom" fmla="*/ 849240 h 85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7"/>
                  <a:pt x="10800" y="534"/>
                </a:cubicBezTo>
                <a:lnTo>
                  <a:pt x="10800" y="10055"/>
                </a:lnTo>
                <a:cubicBezTo>
                  <a:pt x="10800" y="10322"/>
                  <a:pt x="5400" y="10589"/>
                  <a:pt x="0" y="10589"/>
                </a:cubicBezTo>
                <a:cubicBezTo>
                  <a:pt x="5400" y="10589"/>
                  <a:pt x="10800" y="10856"/>
                  <a:pt x="10800" y="11123"/>
                </a:cubicBezTo>
                <a:lnTo>
                  <a:pt x="10800" y="21066"/>
                </a:lnTo>
                <a:cubicBezTo>
                  <a:pt x="10800" y="2133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左大括号 29"/>
          <p:cNvSpPr/>
          <p:nvPr/>
        </p:nvSpPr>
        <p:spPr>
          <a:xfrm>
            <a:off x="3730680" y="3174840"/>
            <a:ext cx="249120" cy="2036880"/>
          </a:xfrm>
          <a:custGeom>
            <a:avLst/>
            <a:gdLst>
              <a:gd name="textAreaLeft" fmla="*/ 159120 w 249120"/>
              <a:gd name="textAreaRight" fmla="*/ 249480 w 249120"/>
              <a:gd name="textAreaTop" fmla="*/ 6480 h 2036880"/>
              <a:gd name="textAreaBottom" fmla="*/ 2030400 h 203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20"/>
                </a:cubicBezTo>
                <a:lnTo>
                  <a:pt x="10800" y="10369"/>
                </a:lnTo>
                <a:cubicBezTo>
                  <a:pt x="10800" y="10479"/>
                  <a:pt x="5400" y="10589"/>
                  <a:pt x="0" y="10589"/>
                </a:cubicBezTo>
                <a:cubicBezTo>
                  <a:pt x="5400" y="10589"/>
                  <a:pt x="10800" y="10699"/>
                  <a:pt x="10800" y="10809"/>
                </a:cubicBezTo>
                <a:lnTo>
                  <a:pt x="10800" y="21380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左大括号 30"/>
          <p:cNvSpPr/>
          <p:nvPr/>
        </p:nvSpPr>
        <p:spPr>
          <a:xfrm flipH="1">
            <a:off x="6977880" y="2027160"/>
            <a:ext cx="351000" cy="3068640"/>
          </a:xfrm>
          <a:custGeom>
            <a:avLst/>
            <a:gdLst>
              <a:gd name="textAreaLeft" fmla="*/ 223920 w 351000"/>
              <a:gd name="textAreaRight" fmla="*/ 350640 w 351000"/>
              <a:gd name="textAreaTop" fmla="*/ 9000 h 3068640"/>
              <a:gd name="textAreaBottom" fmla="*/ 3059640 h 306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"/>
                  <a:pt x="10800" y="205"/>
                </a:cubicBezTo>
                <a:lnTo>
                  <a:pt x="10800" y="10384"/>
                </a:lnTo>
                <a:cubicBezTo>
                  <a:pt x="10800" y="10487"/>
                  <a:pt x="5400" y="10589"/>
                  <a:pt x="0" y="10589"/>
                </a:cubicBezTo>
                <a:cubicBezTo>
                  <a:pt x="5400" y="10589"/>
                  <a:pt x="10800" y="10692"/>
                  <a:pt x="10800" y="10794"/>
                </a:cubicBezTo>
                <a:lnTo>
                  <a:pt x="10800" y="21395"/>
                </a:lnTo>
                <a:cubicBezTo>
                  <a:pt x="10800" y="2149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31"/>
          <p:cNvSpPr/>
          <p:nvPr/>
        </p:nvSpPr>
        <p:spPr>
          <a:xfrm>
            <a:off x="4307760" y="262260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渴望光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11" descr="D:\我的文档\Tencent Files\923213587\FileRecv\归纳总结.gif"/>
          <p:cNvPicPr/>
          <p:nvPr/>
        </p:nvPicPr>
        <p:blipFill>
          <a:blip r:embed="rId4"/>
          <a:stretch/>
        </p:blipFill>
        <p:spPr>
          <a:xfrm>
            <a:off x="3352680" y="4842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"/>
          <p:cNvPicPr/>
          <p:nvPr/>
        </p:nvPicPr>
        <p:blipFill>
          <a:blip r:embed="rId5"/>
          <a:stretch/>
        </p:blipFill>
        <p:spPr>
          <a:xfrm>
            <a:off x="536400" y="1481040"/>
            <a:ext cx="40356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920880" y="3042000"/>
            <a:ext cx="744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本文通过写莎莉文老师教“我”学知识的过程，高度地赞扬了老师的教育技巧与爱心，表达了“我”对老师的感激与爱戴之情，同时也反映了海伦发愤图强的精神和坚韧不拔的毅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11" descr="D:\我的文档\Tencent Files\923213587\FileRecv\归纳总结.gif"/>
          <p:cNvPicPr/>
          <p:nvPr/>
        </p:nvPicPr>
        <p:blipFill>
          <a:blip r:embed="rId4"/>
          <a:stretch/>
        </p:blipFill>
        <p:spPr>
          <a:xfrm>
            <a:off x="3352680" y="4842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"/>
          <p:cNvPicPr/>
          <p:nvPr/>
        </p:nvPicPr>
        <p:blipFill>
          <a:blip r:embed="rId5"/>
          <a:stretch/>
        </p:blipFill>
        <p:spPr>
          <a:xfrm>
            <a:off x="604800" y="1798560"/>
            <a:ext cx="40356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5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4"/>
          <p:cNvSpPr/>
          <p:nvPr/>
        </p:nvSpPr>
        <p:spPr>
          <a:xfrm>
            <a:off x="10561680" y="453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9"/>
          <p:cNvSpPr/>
          <p:nvPr/>
        </p:nvSpPr>
        <p:spPr>
          <a:xfrm>
            <a:off x="934920" y="2160720"/>
            <a:ext cx="4173480" cy="4554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28" y="0"/>
                </a:lnTo>
                <a:lnTo>
                  <a:pt x="21600" y="10800"/>
                </a:lnTo>
                <a:lnTo>
                  <a:pt x="2072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914400" y="3134520"/>
            <a:ext cx="700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正面描写与侧面描写相结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突破“以写老师为主”的惯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既写老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也写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且写自己的篇幅比写老师的还多。作者用了大量的笔墨正面写自己对生活的态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自己的种种感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自己的思想感情的变化等等。这一切都是为了从侧面写老师对自己的巨大影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老师的可敬可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1" descr="D:\我的文档\Tencent Files\923213587\FileRecv\归纳总结.gif"/>
          <p:cNvPicPr/>
          <p:nvPr/>
        </p:nvPicPr>
        <p:blipFill>
          <a:blip r:embed="rId4"/>
          <a:stretch/>
        </p:blipFill>
        <p:spPr>
          <a:xfrm>
            <a:off x="3352680" y="4842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"/>
          <p:cNvPicPr/>
          <p:nvPr/>
        </p:nvPicPr>
        <p:blipFill>
          <a:blip r:embed="rId5"/>
          <a:stretch/>
        </p:blipFill>
        <p:spPr>
          <a:xfrm>
            <a:off x="604800" y="1415880"/>
            <a:ext cx="48164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1"/>
          <p:cNvSpPr/>
          <p:nvPr/>
        </p:nvSpPr>
        <p:spPr>
          <a:xfrm>
            <a:off x="865080" y="3265560"/>
            <a:ext cx="567000" cy="4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878040" y="4429080"/>
            <a:ext cx="566640" cy="4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20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865080" y="2176560"/>
            <a:ext cx="567000" cy="4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65" name="矩形 16"/>
          <p:cNvSpPr/>
          <p:nvPr/>
        </p:nvSpPr>
        <p:spPr>
          <a:xfrm>
            <a:off x="4218120" y="26290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6634440" y="36622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2059200" y="47671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1008000" y="2055960"/>
            <a:ext cx="70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一步把握文章思路，体会海伦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凯勒的思想变化，感知文章内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揣摩文中的重要语句，学习本文的写作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学习海伦好学敏思、坚忍不拔、热爱生活的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1" descr="D:\我的文档\Tencent Files\923213587\FileRecv\出示目标.gif"/>
          <p:cNvPicPr/>
          <p:nvPr/>
        </p:nvPicPr>
        <p:blipFill>
          <a:blip r:embed="rId4"/>
          <a:stretch/>
        </p:blipFill>
        <p:spPr>
          <a:xfrm>
            <a:off x="3328920" y="49680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10" descr=""/>
          <p:cNvPicPr/>
          <p:nvPr/>
        </p:nvPicPr>
        <p:blipFill>
          <a:blip r:embed="rId3"/>
          <a:stretch/>
        </p:blipFill>
        <p:spPr>
          <a:xfrm>
            <a:off x="3303720" y="53964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0"/>
          <p:cNvSpPr/>
          <p:nvPr/>
        </p:nvSpPr>
        <p:spPr>
          <a:xfrm>
            <a:off x="819000" y="2527560"/>
            <a:ext cx="7506000" cy="26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请同学们联系自己的阅读体验，列举古今中外那些付出艰辛卓绝努力而成功的残疾人的事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）阿炳：二十多岁时患眼疾双眼相继失明，二胡作品  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二泉映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获二十世纪华人经典音乐作品奖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）奥斯特洛夫斯基：苏联作家，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25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岁全身瘫痪，双目失明，以顽强的意志创作了长篇小说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钢铁是怎样炼成的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）张海迪：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岁时胸部以下完全失去知觉  高位截瘫，自学掌握英语 、日语 、德语等。当代知名作家、翻译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）富兰克林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罗斯福： 美国政治家，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41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岁时因患脊髓灰质炎，下肢瘫痪，是美国历史上唯一蝉联四届的总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8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画卷.png"/>
          <p:cNvPicPr/>
          <p:nvPr/>
        </p:nvPicPr>
        <p:blipFill>
          <a:blip r:embed="rId3"/>
          <a:stretch/>
        </p:blipFill>
        <p:spPr>
          <a:xfrm>
            <a:off x="279360" y="1468440"/>
            <a:ext cx="8597880" cy="4998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0"/>
          <p:cNvSpPr/>
          <p:nvPr/>
        </p:nvSpPr>
        <p:spPr>
          <a:xfrm>
            <a:off x="938160" y="3155040"/>
            <a:ext cx="717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随风潜入夜，润物细无声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杜甫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春夜喜雨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【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译文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春雨随着春风在夜里悄悄地落下，悄然无声地滋润着大地万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【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哲理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润物细无声”现在多用来形容教育者使受教育者在潜移默化中受教育，受熏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13" descr="D:\我的文档\Tencent Files\923213587\FileRecv\拓展延伸.gif"/>
          <p:cNvPicPr/>
          <p:nvPr/>
        </p:nvPicPr>
        <p:blipFill>
          <a:blip r:embed="rId5"/>
          <a:stretch/>
        </p:blipFill>
        <p:spPr>
          <a:xfrm>
            <a:off x="3263760" y="496800"/>
            <a:ext cx="2573640" cy="59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6"/>
          <a:stretch/>
        </p:blipFill>
        <p:spPr>
          <a:xfrm>
            <a:off x="601560" y="1432080"/>
            <a:ext cx="48164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8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画卷.png"/>
          <p:cNvPicPr/>
          <p:nvPr/>
        </p:nvPicPr>
        <p:blipFill>
          <a:blip r:embed="rId3"/>
          <a:stretch/>
        </p:blipFill>
        <p:spPr>
          <a:xfrm>
            <a:off x="279360" y="1397160"/>
            <a:ext cx="8597880" cy="51339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"/>
          <p:cNvSpPr/>
          <p:nvPr/>
        </p:nvSpPr>
        <p:spPr>
          <a:xfrm>
            <a:off x="1035000" y="3167640"/>
            <a:ext cx="729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春蚕到死丝方尽，蜡炬成灰泪始干。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李商隐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无题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【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译文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春蚕有到死的时候，吐丝才会停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蜡烛有烧成灰的时候，蜡泪才会流干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【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哲理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两句蕴含着一种超越诗歌本身内容而更具普遍意义的哲理，现在多用来形容老师 对工作或事业的忠诚执着，无私奉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3" descr="D:\我的文档\Tencent Files\923213587\FileRecv\拓展延伸.gif"/>
          <p:cNvPicPr/>
          <p:nvPr/>
        </p:nvPicPr>
        <p:blipFill>
          <a:blip r:embed="rId5"/>
          <a:stretch/>
        </p:blipFill>
        <p:spPr>
          <a:xfrm>
            <a:off x="3263760" y="496800"/>
            <a:ext cx="257364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3962520" y="2932200"/>
            <a:ext cx="455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海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凯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18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68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世纪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美国作家、教育家、慈善家，是盲聋哑人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年，她被授予“总统自由勋章”。主要著作有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假如给我三天光明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的生活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的老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2" descr="D:\我的文档\Tencent Files\923213587\FileRecv\资料链接.gif"/>
          <p:cNvPicPr/>
          <p:nvPr/>
        </p:nvPicPr>
        <p:blipFill>
          <a:blip r:embed="rId4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5"/>
          <a:stretch/>
        </p:blipFill>
        <p:spPr>
          <a:xfrm>
            <a:off x="982800" y="1490760"/>
            <a:ext cx="4035240" cy="85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"/>
          <p:cNvPicPr/>
          <p:nvPr/>
        </p:nvPicPr>
        <p:blipFill>
          <a:blip r:embed="rId6"/>
          <a:stretch/>
        </p:blipFill>
        <p:spPr>
          <a:xfrm>
            <a:off x="552600" y="2340000"/>
            <a:ext cx="320508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936720" y="2013120"/>
            <a:ext cx="71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凯勒在一岁多的时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一场高烧，失去了视力，后又失去了听力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老师安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莎莉文的帮助下，海伦用顽强的毅力克服生理缺陷所造成的精神痛苦并逐渐接受教育。她以优异的成绩毕业于哈佛大学拉德克利夫女子学院，成为一位学识渊博，能够掌握英语、法语、德语、拉丁语、希腊语五种语言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著名的作家和教育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2" descr="D:\我的文档\Tencent Files\923213587\FileRecv\资料链接.gif"/>
          <p:cNvPicPr/>
          <p:nvPr/>
        </p:nvPicPr>
        <p:blipFill>
          <a:blip r:embed="rId4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5"/>
          <a:stretch/>
        </p:blipFill>
        <p:spPr>
          <a:xfrm>
            <a:off x="819000" y="1477800"/>
            <a:ext cx="4035600" cy="858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0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grpSp>
        <p:nvGrpSpPr>
          <p:cNvPr id="92" name="组 1"/>
          <p:cNvGrpSpPr/>
          <p:nvPr/>
        </p:nvGrpSpPr>
        <p:grpSpPr>
          <a:xfrm>
            <a:off x="1690560" y="1766880"/>
            <a:ext cx="4577040" cy="668520"/>
            <a:chOff x="1690560" y="1766880"/>
            <a:chExt cx="4577040" cy="668520"/>
          </a:xfrm>
        </p:grpSpPr>
        <p:sp>
          <p:nvSpPr>
            <p:cNvPr id="93" name="圆角矩形 23"/>
            <p:cNvSpPr/>
            <p:nvPr/>
          </p:nvSpPr>
          <p:spPr>
            <a:xfrm>
              <a:off x="2527200" y="1901880"/>
              <a:ext cx="37404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1690560" y="176688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Box 17"/>
          <p:cNvSpPr/>
          <p:nvPr/>
        </p:nvSpPr>
        <p:spPr>
          <a:xfrm>
            <a:off x="358920" y="2354400"/>
            <a:ext cx="84042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海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凯勒是一个让我们自豪与羞愧的名字，她应该得到永世流传，以对我们的生命给予最必要的提醒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梅特林克夫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十九世纪有两个奇人，一个是拿破仑，一个就是海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凯勒。拿破仑试图用暴力征服世界，他失败了；海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凯勒试图用笔征服世界，她成功了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马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吐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海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凯勒的身体不是自由的，但她的心灵却是无比自由的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查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卓别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任何困难都不可能锁住一颗向往伟大的心灵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戴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卡耐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3318480" y="188748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名人对海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凯勒的评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D:\我的文档\Tencent Files\923213587\FileRecv\资料链接.gif"/>
          <p:cNvPicPr/>
          <p:nvPr/>
        </p:nvPicPr>
        <p:blipFill>
          <a:blip r:embed="rId5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6"/>
          <a:stretch/>
        </p:blipFill>
        <p:spPr>
          <a:xfrm>
            <a:off x="231840" y="1346040"/>
            <a:ext cx="4035240" cy="8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1239840" y="241920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争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搓 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惭 愧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一谈    小心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翼    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然大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花团锦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簇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不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31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3"/>
          <a:stretch/>
        </p:blipFill>
        <p:spPr>
          <a:xfrm>
            <a:off x="7932600" y="6230880"/>
            <a:ext cx="1219320" cy="67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S00554_"/>
          <p:cNvPicPr/>
          <p:nvPr/>
        </p:nvPicPr>
        <p:blipFill>
          <a:blip r:embed="rId4"/>
          <a:stretch/>
        </p:blipFill>
        <p:spPr>
          <a:xfrm>
            <a:off x="2995560" y="1801800"/>
            <a:ext cx="503280" cy="439920"/>
          </a:xfrm>
          <a:prstGeom prst="rect">
            <a:avLst/>
          </a:prstGeom>
          <a:ln w="0">
            <a:noFill/>
          </a:ln>
        </p:spPr>
      </p:pic>
      <p:sp>
        <p:nvSpPr>
          <p:cNvPr id="104" name="圆角矩形标注 34"/>
          <p:cNvSpPr/>
          <p:nvPr/>
        </p:nvSpPr>
        <p:spPr>
          <a:xfrm rot="10800000">
            <a:off x="2208240" y="5181120"/>
            <a:ext cx="5842080" cy="924120"/>
          </a:xfrm>
          <a:prstGeom prst="wedgeRoundRectCallout">
            <a:avLst>
              <a:gd name="adj1" fmla="val -26148"/>
              <a:gd name="adj2" fmla="val 49500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33"/>
          <p:cNvSpPr/>
          <p:nvPr/>
        </p:nvSpPr>
        <p:spPr>
          <a:xfrm>
            <a:off x="2214720" y="5238720"/>
            <a:ext cx="602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语境记忆法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偏旁辨字法。有“土”不能忍受为“堪”，有“斗”盛酒为“斟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 53"/>
          <p:cNvGrpSpPr/>
          <p:nvPr/>
        </p:nvGrpSpPr>
        <p:grpSpPr>
          <a:xfrm>
            <a:off x="506520" y="1797120"/>
            <a:ext cx="3122640" cy="461880"/>
            <a:chOff x="506520" y="1797120"/>
            <a:chExt cx="3122640" cy="461880"/>
          </a:xfrm>
        </p:grpSpPr>
        <p:sp>
          <p:nvSpPr>
            <p:cNvPr id="107" name="圆角矩形 54"/>
            <p:cNvSpPr/>
            <p:nvPr/>
          </p:nvSpPr>
          <p:spPr>
            <a:xfrm>
              <a:off x="1004760" y="1797120"/>
              <a:ext cx="1897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椭圆 55"/>
            <p:cNvSpPr/>
            <p:nvPr/>
          </p:nvSpPr>
          <p:spPr>
            <a:xfrm>
              <a:off x="539640" y="17971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c3dd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bbb59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文本框 56"/>
            <p:cNvSpPr/>
            <p:nvPr/>
          </p:nvSpPr>
          <p:spPr>
            <a:xfrm>
              <a:off x="506520" y="1797120"/>
              <a:ext cx="31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</a:t>
              </a:r>
              <a:r>
                <a:rPr b="1" lang="en-US" sz="2400" spc="-1" strike="noStrike">
                  <a:solidFill>
                    <a:srgbClr val="000000"/>
                  </a:solidFill>
                  <a:latin typeface="Adobe 黑体 Std R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字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30"/>
          <p:cNvSpPr/>
          <p:nvPr/>
        </p:nvSpPr>
        <p:spPr>
          <a:xfrm>
            <a:off x="1523520" y="232884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kǎ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1"/>
          <p:cNvSpPr/>
          <p:nvPr/>
        </p:nvSpPr>
        <p:spPr>
          <a:xfrm>
            <a:off x="3129480" y="234792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zh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2"/>
          <p:cNvSpPr/>
          <p:nvPr/>
        </p:nvSpPr>
        <p:spPr>
          <a:xfrm>
            <a:off x="4017240" y="231768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cuō niǎ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5"/>
          <p:cNvSpPr/>
          <p:nvPr/>
        </p:nvSpPr>
        <p:spPr>
          <a:xfrm>
            <a:off x="5769000" y="23176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cán ku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6"/>
          <p:cNvSpPr/>
          <p:nvPr/>
        </p:nvSpPr>
        <p:spPr>
          <a:xfrm>
            <a:off x="1166760" y="319716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hù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7"/>
          <p:cNvSpPr/>
          <p:nvPr/>
        </p:nvSpPr>
        <p:spPr>
          <a:xfrm>
            <a:off x="4160880" y="319716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上箭头 41"/>
          <p:cNvSpPr/>
          <p:nvPr/>
        </p:nvSpPr>
        <p:spPr>
          <a:xfrm>
            <a:off x="3967200" y="4917960"/>
            <a:ext cx="249120" cy="303480"/>
          </a:xfrm>
          <a:prstGeom prst="up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0"/>
          </a:gradFill>
          <a:ln w="9360">
            <a:solidFill>
              <a:srgbClr val="8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上箭头 29"/>
          <p:cNvSpPr/>
          <p:nvPr/>
        </p:nvSpPr>
        <p:spPr>
          <a:xfrm>
            <a:off x="5005440" y="4917960"/>
            <a:ext cx="249120" cy="303480"/>
          </a:xfrm>
          <a:prstGeom prst="up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0"/>
          </a:gradFill>
          <a:ln w="9360">
            <a:solidFill>
              <a:srgbClr val="8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9804240" y="32608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267160" y="319716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Adobe 黑体 Std R"/>
              </a:rPr>
              <a:t>huǎ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39"/>
          <p:cNvSpPr/>
          <p:nvPr/>
        </p:nvSpPr>
        <p:spPr>
          <a:xfrm>
            <a:off x="2343240" y="4057560"/>
            <a:ext cx="11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c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40"/>
          <p:cNvSpPr/>
          <p:nvPr/>
        </p:nvSpPr>
        <p:spPr>
          <a:xfrm>
            <a:off x="3624120" y="405756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kā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4606920" y="405756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Adobe 黑体 Std R"/>
              </a:rPr>
              <a:t>zhē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0" descr="D:\我的文档\Tencent Files\923213587\FileRecv\预习反馈.gif"/>
          <p:cNvPicPr/>
          <p:nvPr/>
        </p:nvPicPr>
        <p:blipFill>
          <a:blip r:embed="rId5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1417680" y="2824200"/>
            <a:ext cx="581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 </a:t>
            </a:r>
            <a:r>
              <a:rPr b="1" lang="en-US" sz="2800" spc="-1" strike="noStrike">
                <a:solidFill>
                  <a:srgbClr val="0c9337"/>
                </a:solidFill>
                <a:latin typeface="宋体"/>
                <a:ea typeface="宋体"/>
              </a:rPr>
              <a:t>lán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)    </a:t>
            </a:r>
            <a:r>
              <a:rPr b="1" lang="en-US" sz="2800" spc="-1" strike="noStrike">
                <a:solidFill>
                  <a:srgbClr val="0c9337"/>
                </a:solidFill>
                <a:latin typeface="宋体"/>
                <a:ea typeface="宋体"/>
              </a:rPr>
              <a:t>zhàn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</a:t>
            </a:r>
            <a:r>
              <a:rPr b="1" lang="zh-CN" sz="2800" spc="-1" strike="noStrike">
                <a:solidFill>
                  <a:srgbClr val="0c9337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激 </a:t>
            </a:r>
            <a:r>
              <a:rPr b="1" lang="en-US" sz="2800" spc="-1" strike="noStrike">
                <a:solidFill>
                  <a:srgbClr val="0c9337"/>
                </a:solidFill>
                <a:latin typeface="宋体"/>
                <a:ea typeface="宋体"/>
              </a:rPr>
              <a:t>dàn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S00554_"/>
          <p:cNvPicPr/>
          <p:nvPr/>
        </p:nvPicPr>
        <p:blipFill>
          <a:blip r:embed="rId4"/>
          <a:stretch/>
        </p:blipFill>
        <p:spPr>
          <a:xfrm>
            <a:off x="2995560" y="1801800"/>
            <a:ext cx="503280" cy="4399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 53"/>
          <p:cNvGrpSpPr/>
          <p:nvPr/>
        </p:nvGrpSpPr>
        <p:grpSpPr>
          <a:xfrm>
            <a:off x="506520" y="1797120"/>
            <a:ext cx="3122640" cy="461880"/>
            <a:chOff x="506520" y="1797120"/>
            <a:chExt cx="3122640" cy="461880"/>
          </a:xfrm>
        </p:grpSpPr>
        <p:sp>
          <p:nvSpPr>
            <p:cNvPr id="130" name="圆角矩形 54"/>
            <p:cNvSpPr/>
            <p:nvPr/>
          </p:nvSpPr>
          <p:spPr>
            <a:xfrm>
              <a:off x="1004760" y="1797120"/>
              <a:ext cx="1897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椭圆 55"/>
            <p:cNvSpPr/>
            <p:nvPr/>
          </p:nvSpPr>
          <p:spPr>
            <a:xfrm>
              <a:off x="539640" y="17971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c3dd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bbb59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文本框 56"/>
            <p:cNvSpPr/>
            <p:nvPr/>
          </p:nvSpPr>
          <p:spPr>
            <a:xfrm>
              <a:off x="506520" y="1797120"/>
              <a:ext cx="31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写一写字形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矩形 20"/>
          <p:cNvSpPr/>
          <p:nvPr/>
        </p:nvSpPr>
        <p:spPr>
          <a:xfrm>
            <a:off x="3071880" y="31129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21"/>
          <p:cNvSpPr/>
          <p:nvPr/>
        </p:nvSpPr>
        <p:spPr>
          <a:xfrm>
            <a:off x="5704200" y="3112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2"/>
          <p:cNvSpPr/>
          <p:nvPr/>
        </p:nvSpPr>
        <p:spPr>
          <a:xfrm>
            <a:off x="3166920" y="3941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0" descr="D:\我的文档\Tencent Files\923213587\FileRecv\预习反馈.gif"/>
          <p:cNvPicPr/>
          <p:nvPr/>
        </p:nvPicPr>
        <p:blipFill>
          <a:blip r:embed="rId5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5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BS00554_"/>
          <p:cNvPicPr/>
          <p:nvPr/>
        </p:nvPicPr>
        <p:blipFill>
          <a:blip r:embed="rId4"/>
          <a:stretch/>
        </p:blipFill>
        <p:spPr>
          <a:xfrm>
            <a:off x="2995560" y="1554120"/>
            <a:ext cx="503280" cy="43992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 23"/>
          <p:cNvGrpSpPr/>
          <p:nvPr/>
        </p:nvGrpSpPr>
        <p:grpSpPr>
          <a:xfrm>
            <a:off x="530280" y="1549440"/>
            <a:ext cx="2660760" cy="461880"/>
            <a:chOff x="530280" y="1549440"/>
            <a:chExt cx="2660760" cy="461880"/>
          </a:xfrm>
        </p:grpSpPr>
        <p:sp>
          <p:nvSpPr>
            <p:cNvPr id="142" name="圆角矩形 32"/>
            <p:cNvSpPr/>
            <p:nvPr/>
          </p:nvSpPr>
          <p:spPr>
            <a:xfrm>
              <a:off x="1003320" y="1549440"/>
              <a:ext cx="1898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椭圆 33"/>
            <p:cNvSpPr/>
            <p:nvPr/>
          </p:nvSpPr>
          <p:spPr>
            <a:xfrm>
              <a:off x="538200" y="154944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c3dd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bbb59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文本框 34"/>
            <p:cNvSpPr/>
            <p:nvPr/>
          </p:nvSpPr>
          <p:spPr>
            <a:xfrm>
              <a:off x="530280" y="1549440"/>
              <a:ext cx="26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三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记一记词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矩形 1"/>
          <p:cNvSpPr/>
          <p:nvPr/>
        </p:nvSpPr>
        <p:spPr>
          <a:xfrm>
            <a:off x="803160" y="2214720"/>
            <a:ext cx="77184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惭愧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因为自己有缺点、做错了事或未能尽到责任而感到不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奥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深奥的尚未被认识的秘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拼凑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把零碎的或分散的合在一起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截然不同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点也不相同。　例句：努力程度不同，学习效果也会截然不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10" descr="D:\我的文档\Tencent Files\923213587\FileRecv\预习反馈.gif"/>
          <p:cNvPicPr/>
          <p:nvPr/>
        </p:nvPicPr>
        <p:blipFill>
          <a:blip r:embed="rId5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07:23:26Z</dcterms:created>
  <dc:creator>apple apple</dc:creator>
  <dc:description/>
  <dc:language>en-US</dc:language>
  <cp:lastModifiedBy>Administrator</cp:lastModifiedBy>
  <dcterms:modified xsi:type="dcterms:W3CDTF">2017-10-23T00:46:17Z</dcterms:modified>
  <cp:revision>3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